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1BB-6F54-4B75-A554-BA1855EF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D79-D00E-4551-950B-905C6A4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9A9-2D5B-4583-A421-4786A476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393-F30E-4C02-BFA6-C9EBC727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88C-84A1-4A2F-886D-E50E117E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C65-E3E2-4BFF-83E0-A225C90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1CB-FA9B-48E4-8DAD-DBBFFC01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C17-9570-4613-9790-90AC1C0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B37-129A-4969-8669-F4DB9B1B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53D-C564-4E5F-A3B4-41D5C34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0BC-65A3-43FB-B7CB-60A61E3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270-5C62-49CA-B8FF-F4AAC6C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109-6BAB-4B67-A5EF-1885FA324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1 #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[Co(en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B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bromodiethylcobalt(III)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bromobis(ethylenediamine)cobalt(III)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balt(III)bis(ethylenediamine)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4./D. Dibromodiethyldiaminecobalt(I)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2 Section 4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lution reactions of a complex ion, what is the name given to the tendency of the complex ion to re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stabi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nd reactiv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reactivit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labi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5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edical procedure is used to inhibit growth of cancer ce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ation 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otherap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st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mpl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2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on in hard water hampers the cleansing action of so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5 # 3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on in detergents is responsible for oxygen depletion in rivers and lakes and causes death to aquatic sp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5 # 4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me of the process where death to aquatic species in rivers and lakes is caused by a specific ionic species in detergents that causes algae growth and thus oxygen deple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ec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atic ero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atic dem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trophic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2 Section 5 # 5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on is an effective chelating agent that forms stable, soluble complexes with 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ons when soap reacts with hard w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olyphosph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5 # 6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mpound revolutionized the detergent industry but was banned in most states in the U.S. during the 1970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phosph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tripolyphosph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hypochlo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22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1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1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2.1 = 2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2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3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3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4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4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5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5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7280" y="1447920"/>
            <a:ext cx="190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5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5.4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5.5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5.6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1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ormula for Sodium hexacyanoferrate(III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NaFe(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isomers are identical in their physical properties, and differ only in their interaction with plane polarized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Structur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Geometric iso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Optical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Diastere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2 # 2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ame and label is given to the isomer that rotates the plane of polarization from a polarimeter to the righ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Dextrorotator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Dextrorotator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Levorotator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Levorotator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2 # 3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an equimolar mixture of two enantiomer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Optical mix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Meso comple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Racemic mix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Isomeric mix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E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= 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= 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= 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3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wavelength of a photon having an energy of 2.5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.6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s and c = 3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389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3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7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8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2 Section 3 #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unpaired spins would you expect the [Co(e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tion to have? Ethylenediamine (en) is a strong-field lig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2 Section 4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reaction does a complex ion undergo in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and exchange or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8T01:11:44Z</dcterms:modified>
  <cp:revision>5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