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63C-460D-42D2-8518-083FC3A2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3E4-35FA-4CF6-8A9D-9D5ABEB3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4EE-247D-43FD-A497-69313A62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9E8-6B3D-4C5A-B29F-C024DA34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9A6-9F3A-4D27-BC67-9EB889D8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8D3-C8C0-4B66-8269-7B85A420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48E-C1C8-4A20-A3C2-5700B74F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F28-3C66-48FF-8CA1-5712C813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6F6-4D9D-4C09-B9D1-A9F73366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965-275F-4824-A136-D594F77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BBB-5930-42DC-B0C5-8F9AFB0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E15-B048-429B-8B56-7947DC0A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FB7D-0897-4E3D-83F1-5A758511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7 Section 1 # 1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will cause a decrease in the percent ionization of H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dded to a solution of H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equilibrium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819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7 Section 4 # 2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lar solubility of AgBr if its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1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4 # 3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ecipitate will form if 0.25 M solutions of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Cl are mix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31237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/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ecipitate will form when these are mi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4 # 4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its solubility is 0.092 mol/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3123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7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7 Section 5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lar solubility of copper(I) bromide in 4.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copper(I) nitrat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opper(I) bromide = 4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32767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7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0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5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will be more soluble in acidic solution than in wate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6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ompound will precipitate first when silver nitrate is added to a solution that is 0.25 M in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C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B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6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 nitrate is slowly added to a solution that is 0.05 M in both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 B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. What is the concentration of silver ions required to initiate the precipitation of AgI without precipitating AgBr?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gI = 8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gBr = 7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3886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than 4.15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and less than 3.85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than 1.66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and less than 1.54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than 8.3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and less than 7.7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information is required to answer th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17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1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1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2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2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2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3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3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3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4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4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4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4.4 = 3 or C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7280" y="1447920"/>
            <a:ext cx="190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5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5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6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6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7 Section 1 # 2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of a solution prepared by adding 0.75 mole of KOBr to 1.0 liter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M HOBr (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HOBr = 2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32004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combinations can be used to prepare a buffer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NaCl/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H/Na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 KI/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2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of a buffer that is 0.5 M in H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1.0 M in Na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H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9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4.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 4.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 5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 8.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2 #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1 L of a buffer that is 0.6 M in acetic acid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M in sodium acetate. What is the pH after addition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 mole NaOH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H = 1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3.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 0.7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 4.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 5.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3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after the addition of 30 mL of 0.05 M NaOH to 50 mL of 0.05 M H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848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1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2.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3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after addition of 20 mL of 0.15 M NaOH to 60 mL of 0.15 M acetic acid?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cetic acid = 1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4.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.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.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 Section 3 #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acid/base titration below will the pH at the equivalence point be neut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HF with 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K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ClO with Li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7 Section 4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given to the equilibrium constant expression for the dissociation of a so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equilibrium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bility product cons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ciation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4T14:28:02Z</dcterms:modified>
  <cp:revision>4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