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F71-871B-47F1-83F0-0629BF47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2A4-44DE-42D0-A847-84189A0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5FF-2289-4C31-A13B-836F6473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993-2831-4A40-8C3F-B2CD8A22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306-4CBD-40D5-83F7-01D20B8C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63C-AA36-4B8D-9BCC-7DBD12FF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FFA-AC3C-449A-B5AB-6D937504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15A-A96C-4642-BD93-820E1166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130-DF43-4D22-89B7-FD8D1822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DF1-F7A8-45CA-B0F2-5B334FD0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28B-A17E-43E5-BECA-F8AC01A1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7DC-88FD-43F4-8D0D-34B1D2DE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0633-4F35-4533-8B23-F34383D52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4 Section 1 # 1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ate for a given reaction i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te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[A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which reaction below would fit the rate equatio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C +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3)A +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 + 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3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Section 4 # 1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table below for a first-order reaction to find the activation energy of the reaction (R = 8.314 J/mol K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(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20     34.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9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5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1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Section 4 # 2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first-order reaction find the rate constant at 200 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 = 8.314 J/mol K), given the activation energy of 30.0 kJ/mol and the rate constant is 4.8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220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74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2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96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Section 5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A +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+ D, the experimental rate law is rate = k[A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]. What is the order with respect to A and B respectivel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 and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 and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and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96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Section 5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A +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+ D, the experimental rate law is rate = k[A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]. What is the overall order for the reactio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4 Section 5 # 3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reaction mechanism below find the intermediat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C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 + HC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HI + IC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Section 6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given to a substance that increases the rate of a chemical reaction but is not consumed in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ible re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4 Section 6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erm is used to describe the reactants and catalyst dispersed in different pha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terogeneous cat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ersive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mogeneous cat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lay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4 Section 6 # 3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xic compound is produced in the body after drinking alcohol that causes headache, nausea, and vomiting, otherwise known as a hang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cohol dehydrogenase (AD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dehyde dehydrogenase (AL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etaldehy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14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1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1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2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2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2.3 = 3 or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3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3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3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3.4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4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4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5.1 = 3 or C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5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5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6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6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6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4 Section 1 #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particular time during the reaction below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is being consumed at a rate of 0.0084 M/s. At what rate i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consumed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g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2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3581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4 Section 2 #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ate Data for the Reaction A + 3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C + 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] 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B] 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ate (M/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ate law for the reactio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39625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 rate = k[A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e = k[A][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e = k[A][B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e = k[A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9621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0.046/M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6/M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3/M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092/M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380880" y="609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4 Section 2 # 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ate Data for the Reaction A + 3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C + 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] 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B] 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ate (M/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ate constant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9621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380880" y="609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4 Section 2 #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ate Data for the Reaction A + 3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C + 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] 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B] 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ate (M/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overall order of the reactio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Section 3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omposition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irst order in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rate constant for this reaction is 1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ow long will it take for 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to fall from 0.95 M to 0.33 M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 2.9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7 h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4 Section 3 # 2 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l)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and the following data: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t(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(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6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ate constant for decomposition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Section 3 # 3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half-life of a first-order reaction for which the rate constant is 3.75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08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195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65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,480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Section 3 # 4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B is a second-order reaction having a rate constant of 2.8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at is the half-life wh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97 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1.03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.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1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7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3T01:43:18Z</dcterms:modified>
  <cp:revision>4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