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305-5FD1-48AF-B0A4-73F0038B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2F8-A3BA-4967-907F-77035D9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D99-3E4A-42E1-A2A7-B08D58A1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1DF-F530-48B4-9A30-C3146E91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E47-978F-47CD-8E4D-707F2A84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8FC-D761-457A-96AB-16AD719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976-936B-4A6B-8B5D-51F8D05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6BB-C3A7-4D8C-AF49-760E1C4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DFB-023E-4E59-B16B-6A3A9FEA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FEA-DF77-4636-B82A-AC421FD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EFF-6282-4BFE-ABA2-562209A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962-2A3E-4419-831A-7E3D406B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8B3E-05AE-4EAC-BA24-AAF7439A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8 Section 1 # 1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 spontaneou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ting of iron at room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 rolling up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freezing at room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 melting at -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8 Section 4 # 3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describes a process that can never be spontane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8 Section 5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gt; 0 then the reaction is spontaneous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lt; 0 then the reaction is spontaneous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lt; 0 then the reaction is spontaneous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gt; 0 then the reaction is spontaneous in 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8 Section 5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&gt;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l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&gt;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&gt;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l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&lt;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5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hat temperature does a reaction become spontaneous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89 kJ/mol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447 J/K m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5 # 4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following reac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7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,576 kJ/m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,031 kJ/m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,932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,99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38360" y="2286000"/>
          <a:ext cx="6095880" cy="1482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 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4 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7 kJ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5 # 5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vaporization of water into steam if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2 kJ/mol for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g) at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65 kJ/K m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2 kJ/K m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4 kJ/K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4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J/K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8 Section 6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alue o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for the reac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63 kJ/mol; R = 8.314 kJ/K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6 # 2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at 303 K for the reaction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(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B(g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7 kJ/mol and the initial pressures ar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34 atm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274 atm? R = 8.324 J/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6.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8 Section 7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ADP to ATP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ally favorab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polymers of poly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 stores free energy until it i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ally favorable reaction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he free energy required to dr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ally unfavorable reaction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7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iochemical reactions have a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et they are an essential proces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iving species require that life sust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ll have negat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is converted to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8 Section 1 # 2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n exothermic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ting of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rolling up a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ustion of 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Liquid vaporizing to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8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1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1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3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3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3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4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4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2 = 1 or A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5.5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6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7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efined as a measure of the disorder of a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Enthal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Entr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609480"/>
            <a:ext cx="8344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2 # 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oice below correctly expresses the Boltzmann equa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S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S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+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has a negat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Dissolve salt in wa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Heating chlorine vap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Heating a pure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Deposition of a gas to a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3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has a negat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Melting i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Freezing liquid bro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Subliming a solid to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Evapor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3 # 3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/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) for the following reaction, given the information in the table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+ 7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+ 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l)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4419360"/>
            <a:ext cx="7848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-151 J/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619 J/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,276 J/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1,895 J/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38360" y="2514600"/>
          <a:ext cx="6095880" cy="1852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 J/mol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J/mol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 J/mol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4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w states that the entropy of the universe increases in a spontaneous process and is constant in an equilibrium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The law of sponta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 Section 4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S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 = HnR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5T00:51:28Z</dcterms:modified>
  <cp:revision>4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