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73A1-B0DE-4AB3-B982-26EE01228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FB26-D863-4892-AB60-F5C506C36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861-3F6D-45D4-A29D-E7C70072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C0F-E671-44C2-8B29-D78B3E3E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8BC6-9EFC-4440-9913-CA6A6D19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4E1-2D1A-4D5A-8C9B-369FFBF8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876-52E6-4938-A96C-9D01F199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739-5352-4E29-BE95-BDEAECCD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84C-BB46-4609-BFFA-F46F0AEA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943-44C0-49C0-B8B6-E0364750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1B9-8782-46EE-AC70-8CE0D426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BAB-5ABE-403F-961B-96EEA8C9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194-8D57-42E6-83ED-745A6952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2FF-C145-4BA9-A289-FC4D9BA7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438C-B64B-4A49-9D60-F19BCE8AC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0 Section 1 #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species X in the following nuclear equation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-21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819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-2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-214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-2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 ab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0 Section 5 #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ame is given to the process in which a heavy nucleus of mass number greater than 200 divides to form smaller nuclei of intermediate mass and one or more neu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40384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f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div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f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0 Section 5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name is given to the process which is a self-sustained sequence of nuclear fission re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33526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clear chain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f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clear f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20 Section 6 # 1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ame given to the process where small nuclei combine into larger 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2000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Nuclear comb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Nuclear 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Nuclear f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Nuclear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0 Section 6 # 2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t called when a fusion reaction occurs only at very high temperat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6668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o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hot 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onuclear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melt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0 Section 7 # 1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echnique related to nuclear chemistry is used for diagnosis in medic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3504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pho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j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 Trac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20 Section 7 # 2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otope below is used for imaging of organs such as the heart, liver, and lungs, based on its emiss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3047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20 Section 8 # 1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name of a molecular fragment having one or more unpaired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32004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rad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 None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0 Section 8 # 2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ame given to the radiation damage that affects the organism during its own life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 Inva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20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1904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1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1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2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2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3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3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3.3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4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4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5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5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6.1 = 2 or B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867280" y="1447920"/>
            <a:ext cx="190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6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7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7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8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8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0 Section 1 # 2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species X in the following nuclear equatio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-236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819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-2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-23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-23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-2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0 Section 2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name for the quantitative measure of nuclear sta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335232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Nuclear binding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  Quantitative st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  Nuclear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Nuclear flu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0 Section 2 # 2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nuclear binding energy of the nucleus of Bi-209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8.98 amu) (proton = 1.007825 amu and neutron = 1.008665 amu)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7696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-2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/nuc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-4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/nucle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-4.14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/nuc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-1.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/nuc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0 Section 3 # 1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equence of nuclear reactions that result in the formation of a stable isot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8487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Radioactive decay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otopic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clear re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quential isotopic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0 Section 3 # 2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ld piece of wood has a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activity of 8.2 disintegrations per second.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activity of a fresh-cut piece of wood has a constant value of 17.5 disintegrations per second. What is the age of the old piece of wood? The half-life o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is 5,715 years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3733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6,25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,638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7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74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0 Section 3 # 3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ck contains 8.34 mg o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.5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r) and 2.35 mg o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b. What is the age of the roc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1.5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4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1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8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20 Section 4 # 1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ame is given to elements with atomic numbers greater than 9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ac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neptunium 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uranium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0 Section 4 # 2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the correct representation for the reaction of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 + deuteriu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33526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(d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(d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(d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(d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7-06T23:38:08Z</dcterms:modified>
  <cp:revision>4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