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0F4-F728-46B8-9172-1B8400A9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3F2-F9F1-447E-8E48-291131BD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29C-AF51-45FB-8FDA-E177CA5F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4E1-86F1-4A23-8CDC-47FE92A6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230-AA3F-4D1B-BBD2-D90FCACD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BC2-52F7-49BF-A2ED-825E4A33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458-DCD8-4784-9B6E-34EBC965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FDE-4D40-4428-A304-DADFE404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2F6-87CC-45D9-9C0E-ADDC4A0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7DD-046C-46A5-AB35-9003B93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AD1-1175-4089-AAD7-F3F4705C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22C-21AB-41DC-80A3-F945A56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840-6401-4C55-86C4-7BBEB4E9C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1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for a substance that dissolves in water to yield a solution that conducts electri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l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lectrol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 Section 2 #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reaction, what ions are spectator ions?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+ 2NaCl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→ PbC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+ 2Na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N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N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Cl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3 # 1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lete the following reaction and identify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sted aci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(aq) + HCl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l(aq) +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; HCl is the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2O(l) + NaCl(aq); HCl is the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Cl(aq) + H2O(l); NaCl is the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(aq) + HOCl(aq); NaOH is the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3 # 2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net ionic equation for the reaction between lithium hydroxide and hydrobromic acid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O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HBr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LiBr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O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+ Br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→ LiBr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OH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→ Li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+ OH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O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+ H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Br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LiBr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3 # 3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ronsted base in the following reacti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 +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HF +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4 #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xidation number for sulfur in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the reducing agent and what is reduced in the following reacti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+ CuS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S(aq) +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is the reducing agent and CuS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is the reducing agent and S is 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 is the reducing agent and Z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s the reducing agent and Cu is 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4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activity series, which reaction below will not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(s) + 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→ Li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(s) + 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→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B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(s) + 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→ 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(s) + Sn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→ Ni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4 # 4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quation below correctly balances the following redox reaction?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Al + 2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3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Al + 3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2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Al + 3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3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 Section 5 #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larity of a solution made by dissolving 18.5 g of calcium hydroxide in 750.0 mL of wa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48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87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33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 Section 5 # 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of sodium carbonate needed to make 450.0 mL of a 0.975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0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1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.5 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9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1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name given for a substance that produces hydroxide ions when it dissolves in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hot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 Section 5 # 3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olume of a 1.5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is required to make 500 mL of a 0.75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2.5 m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4.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 Section 5 # 4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that is 0.30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6 # 1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batteries use 3.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electrolyte. How much 1.2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OH will be needed to neutralize 225 mL of battery acid?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2NaOH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2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N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5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6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0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6 # 2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inc dissolves in hydrochloric acid to yield hydrogen ga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(s) + 2HCl(a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. What mass of hydrogen gas is produced when excess zinc is added to 500.0 mL of 1.200M HCl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0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5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0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0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 Answers to chapter 4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4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3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4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5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6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2 = 1 or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4.4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.4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6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6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1 #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of the following is not a weak electroly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1 #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of the following is a weak electroly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2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ubstance below is water solu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2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ubstance below is water insolu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Section 2 #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ubstance below is water solu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 Section 2 #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recipitate forms when the following reactants are mix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LiOH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(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 Section 2 #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et ionic equation for the reaction between sodium chloride and mercury (I) nitrate?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aCl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+ Hg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→ Na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+ Hg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2Cl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Hg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Cl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N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Cl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→ H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N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→ NaN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26T19:12:39Z</dcterms:modified>
  <cp:revision>1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