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0441-5A6D-475C-8251-3A30B5A45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1DF7-D261-47C6-9EDC-17925D532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3174-B6BE-4C22-B78E-E04E0ED19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FFFE-5E9B-487C-9406-B890BA62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12C4-3138-41D5-B144-C1FF54575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C8B6-18D7-4F77-82C9-7832BA1E4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42D7-FD33-471B-A0F7-086A6996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B458-A972-4908-B06F-64A54CB2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8E97-7FA1-4E33-8866-284EDCE5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47BC-FA63-4E8A-86EB-95B6B84A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76C6-19D3-4959-B21E-406EE369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7894-DDF6-4586-A97A-FA97D5CF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55B4-F040-4651-B149-A6E597EE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2372-708F-4C0A-92F9-697830C2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C9CA-4F8E-44D5-8A2C-EEE0CE954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1 Section 1 # 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term defines a concise verbal or mathematical statement of a reliable relationship between phenome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 Section 3 # 5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density of an object having a volume of 253 mL and a mass of 91.6 g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362 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76 mL/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2 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,175 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 Section 4 # 1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following is not an extensive propert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 Section 4 # 2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following is an extensive propert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orrect answer is gi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 Section 4 # 3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following describes a chemical property of a substanc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produced during combus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boils at 373 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gas at room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lver is a lustrous me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 Section 5 # 1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significant figures are in the number 32.800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 Section 5 # 2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significant figures are in the number 67,400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igu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 Section 5 # 3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significant figures are in the number 4.30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 Section 5 # 4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um of 10.52 and 8.955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.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.4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 Section 5 # 5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product of dividing 607.90 by 9,176.74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662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6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662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66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 Section 6 # 1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mass in kilograms of a man weighing 192.5 lbs. (Hint: 1 lb = 453.6 g)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3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7.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3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7,3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 Section 1 # 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term defines a tentative explanation for observ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al 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 Section 6 # 2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height in millimeters of an object that is 6 feet 11.50 inches tall (Hint: 1 in = 2.540 cm)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04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30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2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1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 Section 6 #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nm are in 3.45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cromet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.45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.45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.45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 Section 6 #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volume in liters occupied by an object with a mass of 212.3 g and a density of 1.312 g/m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31240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0.16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6.1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6.18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61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 Section 6 #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cubic millimeters (m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re contained in an aluminum block whose volume is 4.0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31240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0.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4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4.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4.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rd Answers to chapter 1 clicker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1.1 = 3 or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1.2 = 2 or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1.3 = 2 or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.1 = 2 or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.2 = 4 or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3.1 = 2 or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3.2 = 4 or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3.3 = 2 or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3.4 = 3 or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3.5 = 1 or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4.1 = 2 or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4.2 = 4 or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4.3 = 1 or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.1 = 4 or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.2 = 1 or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.3 = 3 or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.4 = 1 or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.5 = 3 or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6.1 = 2 or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6.2 = 4 or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6.3 = 3 or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6.4 = 1 or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6.5 = 3 or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 Section 1 # 3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chemical element is depicted by black spheres in molecular a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 Hyd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 Section 2 # 1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annot be separated into simpler substances by chemical mea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ogeneous mix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ous mix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 Section 2 # 2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is not a physical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i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 Section 3 # 1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is not an SI un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 Section 3 # 2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body temperature is 3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What is this in Kelv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10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36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6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10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 Section 3 # 3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t is 3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in Oslo, Norway, then what season of the year is 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 Section 3 # 4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volume that is occupied by an object having a density of 1.78 g/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a mass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25 kg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/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7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/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42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/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02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/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225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r. Debbie Beard</dc:creator>
  <dc:description/>
  <dc:language>en-US</dc:language>
  <cp:lastModifiedBy>David Jones</cp:lastModifiedBy>
  <dcterms:modified xsi:type="dcterms:W3CDTF">2018-06-26T11:27:33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