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628-D18C-4953-ACF3-90BF825D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9BD-16DD-4591-B147-8C66D3E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917-DE99-4336-AAD5-CC819248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10A-D70D-4068-823C-A525F2B6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C7C-253E-4AAB-8D5A-C40D2DE1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1E0-C43C-49D7-A9B0-073DBCD8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FCD-9199-4F25-9DFC-EC14EC5E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FBA-2516-4B62-BB37-8E5A6132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FF4-2A6B-40C0-A498-A444C886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2C0-46F9-4B5B-A531-1427E77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015-5ED9-4E3F-BCC2-77401B4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888-521D-416E-9BA7-E9DAFCF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539-FEAC-4557-A4CB-F54E83D7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3 Section 1 #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elements is required to be classified as an organic compoun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3 Section 3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ecular formula for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(OH)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3 # 2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of the following can more than one resonance structure be dra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O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isomers exist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4 #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lecules that are nonsuperimposeable mirror images of each other are called which of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stere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nti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molecules represented below are examples of: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H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tion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5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the species which is positive and attracted to the negative portion of a molecule during an organic chemical re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p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cleophi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3 Section 5 # 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ter reacts with carbon dioxide, what is the role of the wa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as an electrop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as a nucleop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as a 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as a reduc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3 Section 5 # 3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of propylene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th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epare propane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ould be classified as what type of organic reac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ome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6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contain more than one type of monomer un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ition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densation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6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polymers form when a radical species attacks a double bond forming a new longer radical species which attacks another double bond,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ition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ensation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ock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1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compounds that contain one or more benzene r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mat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phat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gated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6 #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are biological polymers in which the monomer units are amino ac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6 # 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is eliminated during which type of polymeriz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polym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 polym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olym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olym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3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2 = 1 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5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.6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3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3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4.1 = 2 or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4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5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6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6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6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6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1 # 3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of carbon to form long chains – straight, branched or cyclic – is know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for the 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Meth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prop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bu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ass of compound called that contain a –COOR functional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ehy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3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ass of compound called that contain a –CHO functional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ehy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4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ass of compound called that contain a –COOH functional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ehy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5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label is given to an alkyl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 Section 2 # 6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lass or family of compounds contains both the carboxyl group and the amine group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8T21:01:50Z</dcterms:modified>
  <cp:revision>3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