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B9C-7980-4468-80FC-5F6FE0CE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D77-D0E8-48F3-97DC-3F6B3E1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059-0153-4614-8408-18FC27CB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57D-7AF5-460B-832C-5FC226BA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0DF-F564-451F-90A8-3D630DD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E51-3040-478A-911E-6DC3ABD3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A74-C1C9-4AB8-85B5-93FBE243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C98-B022-404F-82D9-F58DA9C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847-C251-4FC7-8DD1-D4324E50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490-6F19-4274-90B3-FBB643F1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E91-48FE-4BEF-80DF-97DEE93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276-6030-425B-AB3B-A8AFF63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11B1-51BC-47B7-9313-040862E7D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1 #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hape of the 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pla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onal pyram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orbitals does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ybrid orbitals contai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4 #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als are required to generate a se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 orbit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rbital hybridization of the central S atom in the S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 Section 5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molecules contain one or more pi bonds: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 and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,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5 # 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rbital hybridization of the carbon atoms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5 # 3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rbital hybridization of the central carbon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=C=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5 # 4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rbital hybridization of the oxygen atom in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 Section 6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ond order for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6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species is diamagne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7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contains delocalized pi bond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1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lectron-domain geometry and molecular shape respectively for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nd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nd b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hedral and b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hedral and pyram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7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atoms in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 hybrid orbitals to describe the bonding in the molec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he hydrogens and the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hydr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9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1905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1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1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1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1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1.5 = 4 or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2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3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3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4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4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480" y="17524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5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5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5.4 = 2 or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6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7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7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1 # 3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nd angle in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s expected to be approxim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1 # 4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VSEPR theory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–C –O bond angles in the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are predicted to b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.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1 # 5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olecule has bond angles that deviate from ideal bond angle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 Section 2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 pola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2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nonpolar molecules in the following group: HBr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9 Section 3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toms, in its ground state, has unpaired electron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 Section 3 # 2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bonds would you expect a carbon atom to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30T21:48:32Z</dcterms:modified>
  <cp:revision>3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