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BCBA-A791-4701-81B5-14D8048F8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3508-99C2-4DC9-8366-3F33D3191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A91A-3AE6-4EC5-8F87-0300CBD2A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72CC-68C6-4674-A613-4536D95CB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09C1-78A8-4CC2-82B8-FA537E55F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12CD-B6F4-4115-ADDF-47B6DD16D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A7FF-500E-432B-8FCB-587DB4E57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4F70-AA2A-4B03-A743-776023910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04E5-D87F-4635-AA42-474E9899E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0E56-21D7-4D24-B374-C73FB8BE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5F14-AD2A-4682-8764-91A68D52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7D79-AE0C-41F0-B3F9-8EAB55D8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50F8D-2AF7-4DE9-85EB-D28A9DCAD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pter 15 Section 1 # 1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of the following statements is correct concerning a chemical reaction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880" y="28195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tarts with only reactants and ends up with onl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tant concentrations decrease and produ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ons incre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always favors the forward re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verse reaction is always favored a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tempera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5 Section 3 # 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equilibrium expression f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)       BaO(s)  + 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815328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/A. 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[BaO][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[Ba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[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[BaCO</a:t>
            </a:r>
            <a:r>
              <a:rPr b="0" lang="en-US" sz="3200" spc="-1" strike="noStrike" u="sng" baseline="-25000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BaO][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3733920" y="1981080"/>
            <a:ext cx="28260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75528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5 Section 3 # 3</a:t>
            </a:r>
            <a:br>
              <a:rPr sz="3200"/>
            </a:b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the following information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g)         2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g) 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2.0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38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NO(g)  + 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g)         2N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2.4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he value of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the following reaction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(g)  + 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g)         N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g)  + 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505320"/>
            <a:ext cx="81532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   5.6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3.5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9.0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.1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4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3505320" y="1700280"/>
            <a:ext cx="282600" cy="198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2"/>
          <a:stretch/>
        </p:blipFill>
        <p:spPr>
          <a:xfrm>
            <a:off x="4110120" y="2001960"/>
            <a:ext cx="282600" cy="198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3"/>
          <a:stretch/>
        </p:blipFill>
        <p:spPr>
          <a:xfrm>
            <a:off x="4392720" y="2925720"/>
            <a:ext cx="282600" cy="1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3059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5 Section 3 # 4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the following information at 2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NOCl(g)      2NO(g) + 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) 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4.0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value of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this reaction at 2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 = 0.0821 L atm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l-1)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581280"/>
            <a:ext cx="81532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  0.6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6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2971800" y="1523880"/>
            <a:ext cx="28260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5 Section 4 # 1 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745 K,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.02 for the reaction below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HI(g)        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g) + 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g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5.00 mol of HI(g) and 5.00 mol of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g) are mixed in a 10.0 L flask and heat to 745 K, what are the concentrations of HI(g),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g), and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g) at equilibriu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35053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HI] = 0.481 M; [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= 0.509 M; [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= 0.009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HI] = 0.481 M; [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= 0.009 M; [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= 0.009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HI] = 0.51 M; [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= 0.481 M; [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= 0.481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HI] = 0.51 M; [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= 0.01 M; [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= 0.01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4114800" y="1523880"/>
            <a:ext cx="28260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5 Section 4 # 2 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the reaction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g)  + 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g)        2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(g)  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2.5 at 30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ly [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= [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= 0.05 M and [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] = 0.0075. Which direction will this reaction proceed to establish equilibrium and what is the relationship between 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35053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is at equilibrium and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ion proceeds to the right and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lt;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ion proceeds to the left and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gt;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ion proceeds to the left and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lt;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3809880" y="1371600"/>
            <a:ext cx="282600" cy="1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5 Section 4 # 3 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 following is corr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312372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Q = K then adding more reactant will not shift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ion of equilibri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Q &lt; K products must be converted to reac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Q &gt; K the reverse reaction is favor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Q &gt; K the reactants must be converted to produc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769644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5 Section 5 # 1 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 following equilibria will shift to the left when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g) is added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3276720"/>
            <a:ext cx="83822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g) 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g)      2HI (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(g)         2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g) + 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g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Cl (g) + B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g)      HBr (g) + 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KH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s)    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s) +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(g) +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3733920" y="3459240"/>
            <a:ext cx="282600" cy="198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2"/>
          <a:stretch/>
        </p:blipFill>
        <p:spPr>
          <a:xfrm>
            <a:off x="3170160" y="4014720"/>
            <a:ext cx="282600" cy="200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"/>
          <p:cNvPicPr/>
          <p:nvPr/>
        </p:nvPicPr>
        <p:blipFill>
          <a:blip r:embed="rId3"/>
          <a:stretch/>
        </p:blipFill>
        <p:spPr>
          <a:xfrm>
            <a:off x="4199040" y="4495680"/>
            <a:ext cx="282600" cy="198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"/>
          <p:cNvPicPr/>
          <p:nvPr/>
        </p:nvPicPr>
        <p:blipFill>
          <a:blip r:embed="rId4"/>
          <a:stretch/>
        </p:blipFill>
        <p:spPr>
          <a:xfrm>
            <a:off x="3451320" y="5029200"/>
            <a:ext cx="282600" cy="1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69644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5 Section 5 # 2 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 following will shift to the right when the temperature is increased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27428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(kJ/m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CO  + 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2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5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 + CO     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+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  +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C  +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    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3352680" y="3429000"/>
            <a:ext cx="282600" cy="198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2"/>
          <a:stretch/>
        </p:blipFill>
        <p:spPr>
          <a:xfrm>
            <a:off x="3352680" y="3962520"/>
            <a:ext cx="282600" cy="198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"/>
          <p:cNvPicPr/>
          <p:nvPr/>
        </p:nvPicPr>
        <p:blipFill>
          <a:blip r:embed="rId3"/>
          <a:stretch/>
        </p:blipFill>
        <p:spPr>
          <a:xfrm>
            <a:off x="2286000" y="4952880"/>
            <a:ext cx="282600" cy="198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"/>
          <p:cNvPicPr/>
          <p:nvPr/>
        </p:nvPicPr>
        <p:blipFill>
          <a:blip r:embed="rId4"/>
          <a:stretch/>
        </p:blipFill>
        <p:spPr>
          <a:xfrm>
            <a:off x="3048120" y="4419720"/>
            <a:ext cx="282600" cy="1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s to chapter 15 clicker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19047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.1.1 = 2 or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.1.2 = 3 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.1.3 = 4 or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.2.1 = 3 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.2.2 = 2 or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.2.3 = 1 o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.2.4 = 4 or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.2.5 = 1 o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.3.1 = 1 o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.3.2 = 3 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.3.3 = 2 or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.3.4 = 2 or B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372280" y="1447920"/>
            <a:ext cx="2209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.4.1 = 1 o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.4.2 = 2 or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.4.3 = 3 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.5.1 = 2 or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.5.2 = 4 or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pter 15 Section 1 # 2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name is given to the process where the products of a reaction react to form reacta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32004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librium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anced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ibl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  Secondary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pter 15 Section 1 # 3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ymbol is used to denote the molar concentration of a reactant or produ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32004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 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  [ 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5 Section 2 # 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the correct equilibrium constant expression for the following reaction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) + 3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)     2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/A. 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[NH</a:t>
            </a:r>
            <a:r>
              <a:rPr b="0" lang="en-US" sz="2400" spc="-1" strike="noStrike" u="sng" baseline="-25000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]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(3[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/B. 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[NH</a:t>
            </a:r>
            <a:r>
              <a:rPr b="0" lang="en-US" sz="2400" spc="-1" strike="noStrike" u="sng" baseline="-25000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]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[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/C. 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[NH</a:t>
            </a:r>
            <a:r>
              <a:rPr b="0" lang="en-US" sz="2400" spc="-1" strike="noStrike" u="sng" baseline="-25000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]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[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/D. 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   [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4724280" y="1630440"/>
            <a:ext cx="282600" cy="1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5 Section 2 # 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the correct equilibrium expression for the following reaction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) +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)      2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(g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/A. 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[H</a:t>
            </a:r>
            <a:r>
              <a:rPr b="0" lang="en-US" sz="2400" spc="-1" strike="noStrike" u="sng" baseline="-25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]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(2[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/B. 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[H</a:t>
            </a:r>
            <a:r>
              <a:rPr b="0" lang="en-US" sz="2400" spc="-1" strike="noStrike" u="sng" baseline="-25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]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/C. 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[H</a:t>
            </a:r>
            <a:r>
              <a:rPr b="0" lang="en-US" sz="2400" spc="-1" strike="noStrike" u="sng" baseline="-25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]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[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/D. 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[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4800600" y="1630440"/>
            <a:ext cx="282600" cy="1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0592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5 Section 2 # 3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reaction A + B      2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[A] = 0.25 M, [B] = 0.20 M, and [C] = 0.5 M at equilibrium, what is the value of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3657600"/>
            <a:ext cx="815364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/A.   5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10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40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200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5715000" y="1371600"/>
            <a:ext cx="282600" cy="1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0592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5 Section 2 # 4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reaction A + B      2C + D, where [A] = 0.15 M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B] = 0.20 M, and [C] = [D] = 0.3 M at equilibrium, what is the value of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3657600"/>
            <a:ext cx="815364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/A. 1.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.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.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.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3962520" y="1371600"/>
            <a:ext cx="282600" cy="1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0592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5 Section 2 # 5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equilibrium constant below represents a reaction in which products do not form to any appreciable extent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3657600"/>
            <a:ext cx="815364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/A.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3.5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–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/B.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/C.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0.0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/D.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3.5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5 Section 3 # 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equilibrium expression f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(OH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)       B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q)  +  2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q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815328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/A. 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[B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[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[Ba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[Ba</a:t>
            </a:r>
            <a:r>
              <a:rPr b="0" lang="en-US" sz="3200" spc="-1" strike="noStrike" u="sng" baseline="30000">
                <a:solidFill>
                  <a:srgbClr val="000000"/>
                </a:solidFill>
                <a:uFillTx/>
                <a:latin typeface="Arial"/>
              </a:rPr>
              <a:t>2+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][OH</a:t>
            </a:r>
            <a:r>
              <a:rPr b="0" lang="en-US" sz="3200" spc="-1" strike="noStrike" u="sng" baseline="30000">
                <a:solidFill>
                  <a:srgbClr val="000000"/>
                </a:solidFill>
                <a:uFillTx/>
                <a:latin typeface="Arial"/>
              </a:rPr>
              <a:t>-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]</a:t>
            </a:r>
            <a:r>
              <a:rPr b="0" lang="en-US" sz="32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Ba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[Ba(OH)</a:t>
            </a:r>
            <a:r>
              <a:rPr b="0" lang="en-US" sz="3200" spc="-1" strike="noStrike" u="sng" baseline="-25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B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[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3581280" y="1981080"/>
            <a:ext cx="28260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r. Debbie Beard</dc:creator>
  <dc:description/>
  <dc:language>en-US</dc:language>
  <cp:lastModifiedBy>David Jones</cp:lastModifiedBy>
  <dcterms:modified xsi:type="dcterms:W3CDTF">2018-07-03T19:11:37Z</dcterms:modified>
  <cp:revision>4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