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888-0F68-4C5F-B6EB-AE772D1D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F29-ACD6-4BF8-9A83-33BDFE2A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A77-C348-48F9-9A54-C29E47C6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FCA-38E5-4857-9D02-CEEFB5B7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542-C650-4E64-990C-03D37D6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EB0-C03E-45ED-97C6-36947E8C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8EC-07B0-457D-A725-A8408BAE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92E-172C-48E9-860C-818FC832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D70-9A54-4D9C-95A3-BAC1D4B1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064-410A-4BD0-BA24-764947DD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DBC-A39E-4D58-86EF-94BD6B3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B01-2E7F-4F7A-B166-0382164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AB3-1776-4155-999B-4E78DDA05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1 # 1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lement below would you expect to have properties most similar to sod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4 # 4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the elements Cr, Sr, Br, Ag in increasing order of thei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 affi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 &lt; Br &lt; Cr &lt;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 &lt; Cr &lt; Br &lt; 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 &lt; Sr &lt; Br &lt; 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 &lt; Cr &lt; Ag &lt; 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4 # 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the elements Cu, Si, Fr, Ca in order of increasing atomic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Cu &lt; Ca &lt; 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&lt; Si &lt; Ca &lt; C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Fr &lt; Cu &lt;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&lt; Ca &lt; Cu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 Section 5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on is isoelectronic with A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an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 Section 5 # 2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air is isoelectronic with each o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 Section 5 # 3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correct ground-state electron configuration of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 Section 5 # 4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correct ground-state electron configuration of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 Section 6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pecies is isoelectronic with X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6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arranged in correct order of decreasing ionic radi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7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element should be in a group by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7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group is called Alkali Met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1 # 2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lement below would you expect to have properties most similar to nitrog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chapter 7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190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2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3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3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.4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.5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5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5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5.3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5.4 = 1 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6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6.2 = 2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7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 Section 2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lectron configuration is correct for a selenium atom (Se) in the ground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 Section 2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equations represents the chemical reaction of carbon (graphite) reacting with gaseous oxygen to produce CO(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C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C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O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3 #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ame given to the actual magnitude of positive charge that is experienced by an electron in an at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osi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3 # 2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electron is hardest to remove from an atom ha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valanc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4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the elements Mg, Cl, P, Rb in order of increasing magnitude of thei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ization e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&lt; P &lt; Rb &lt;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 &lt; P &lt; Rb &lt; 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&lt; P &lt; Mg &lt; 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b &lt; Mg &lt; P &lt;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the elements Al, Si, Ca, and K in order of increasing magnitude of thei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ization e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&lt; Al &lt; Si &lt;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&lt; Ca &lt; Si &lt;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&lt; Ca &lt; Al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&lt; Si &lt; K &lt;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Section 4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the elements B, S, Cs, K in increasing order of thei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ctron affin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&lt; K &lt; S &lt;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&lt; Cs &lt; S &lt;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 &lt; K &lt; B &lt;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&lt; B &lt; K &lt;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30T00:04:18Z</dcterms:modified>
  <cp:revision>2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