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513-6CC8-4206-9DEA-5653B054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5B3-860B-4E9F-81F7-7E74C779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558-BF98-43C1-A6B8-C1FD154F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D23-5547-4B9D-A1D6-2A79E7AA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0BC-1D5E-44AB-AEF8-AAFD5BD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2D5-419E-449B-82CA-16553D9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C5D-6724-466B-B14B-2738DE3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FA6-158F-4F6E-B43E-F56ABFB6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FB6-7AA3-48FC-8DC8-95FBF1B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4DA-8CB9-4F6C-BC57-045199C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710-CB79-4CB8-9D74-F0DDD61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F1A-3F84-45DF-A705-38F9381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5EC-6740-4E0B-A479-C2588E39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9 Section 1 # 1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equations does not represent a redox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NaCl + Z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r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Br + Na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 + M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S + 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C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KBr +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5 # 2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cell potential at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of a galvanic cell consisting of a Cu electrode in 0.25 M Cu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Cu electrode in 1.5 M Cu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-0.023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7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0.023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-0.78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6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8195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ctions taking place in an alkaline batte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a basic medi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ch and water are added to the solution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ne battery to make a p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y cell is more expensive than an alka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kaline battery is based on the redu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ttery used to power the space shuttle is the d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 use of the alkaline rechargeable battery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 automobile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el cell uses electrical energy and converts i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thium-ion battery is “the battery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7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lectrolysis of molten Au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urrent of 0.734 A is passed through the cell for 2.50 h.  What is the mass of Au produced at the cath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78483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27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4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13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6,606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7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will a current of 0.847 A need to be passed through water (containin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2.50 L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produced at ST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32767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1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.4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7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8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of the process used to protect metals from corro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v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-p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-p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8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ed to coat an iron beam exposed to the atmosphere with something to keep it from rusting, then what is a practical substance you could use to coa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9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1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1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2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2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3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3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4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5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6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6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7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7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8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8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1 # 2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 in an acidic solution to for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at are the coefficients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balanced eq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an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n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3 an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for the experimental apparatus for generating electricity through the use of a spontaneou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a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An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Galvan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Salt bri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8344080" cy="21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2 # 2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me given to the apparatus that connects the two half-cells of a galvanic cell, allowing cations and anions to migrate to the cathode and anode compartments, resp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Ca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An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Galvanic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Sal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3 # 1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for a galvanic cell made of a Cu electrode in a solution that is 1.0 M in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Ag electrode in a solution that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 M in 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1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(s)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0.800 V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(s)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0.337 V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1.137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463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0.463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1.137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 Section 3 # 2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dox reaction will occur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when Zn metal is placed in a solution that is 1.0 M in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0.771 V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2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(s)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0.763 V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(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Z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redox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alue of K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for the following reac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Mg(s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d(s) +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;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9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.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4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for the reaction shown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8.314 J/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Mg(s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d(s) +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9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8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7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1 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9 Section 5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for a galvanic cell based on the reaction below when [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0.072 M and [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1.54 M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Mg(s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d(s) +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9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2.01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5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1.93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21.4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6T21:57:58Z</dcterms:modified>
  <cp:revision>4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