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96F1-26C2-4214-9CA2-5373D5F7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050-8C25-4A88-80A3-6C6CE438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25B-5EEB-487B-AABD-D770C9F8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271-B6E7-40DC-8A3E-DF5C17B4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DE5-BB0D-430C-B2D7-527F4968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4A8-754A-47AF-A85A-62CF7500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417-A39B-4C1E-9F8C-CDD8B8BD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63C-E387-4D4D-9BCB-59AB6980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9E9-B62D-419B-BF46-96941ED3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A70-18E7-4661-9651-7CF96705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36B-29D8-469B-AFA2-40F8C892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66E-FFA4-4D50-A8FD-56904EA6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8238-4670-49E4-9357-C3E63576F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Section 1 # 1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a gas in its elemental st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 Hydro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 Carb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 Bro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Phosp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Section 4 # 1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up approximately 80% of air by volu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Section 4 # 2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ormula for elemental phosphorus and what is its state of ma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33526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g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g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oli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oli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Section 5 #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abundant element in the Earth’s cru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33526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Section 5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raction of the atoms in living matter are oxyg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33526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urth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-fourth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Section 5 # 3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element is present in gypsum and pyr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33526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o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Section 6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 most reactive halo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m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Section 6 # 2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a weak ac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/E. None of the ab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Section 6 # 3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a reddish-brown colored liquid in its elemental form at room temp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m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chapter 25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213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1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1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1.3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2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2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2.3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2.4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3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3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4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4.2 = 4 or 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5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66920" y="1752120"/>
            <a:ext cx="2133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5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5.3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6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6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6.3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Section 1 #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a liquid in its elemental st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040" y="335232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Hydro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  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  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Phosphor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Section 1 #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name of Group 7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3352320"/>
            <a:ext cx="7620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Noble g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  Metallo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  Hyd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Haloge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Section 2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statements is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Elemental hydrogen is diatom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  Two hydrogen atoms combine to produce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al hydro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  Formation of elemental hydrogen is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thermic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All of the above are correct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Section 2 # 2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abundant element in the universe, accounting for 70% of the universe’s total mas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7696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Nitr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Oxyg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Hydr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Magnes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Section 2 # 3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NOT an ionic hydrid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81952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Na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Ba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Ca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Section 2 # 4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hemical formula for heavy water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2819520"/>
            <a:ext cx="76964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Section 3 # 1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an allotrope of carb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297180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Diam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ony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rund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Section 3 # 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phenomenon showing carbon’s unique ability to bond with itself to form long chains and stable r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3352680"/>
            <a:ext cx="7925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Carb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7-09T16:45:44Z</dcterms:modified>
  <cp:revision>5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