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289-DBE8-4071-A3EF-451420EC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9FA-79F5-440D-A9CF-F8EBC002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EC2-37D5-4764-A925-11167D5D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3ED-671B-4620-A1DF-FBE59C0C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45B-18A2-4DE3-A9C6-3CB8FC06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15E-58DD-4082-BC6D-F43B50CE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02F-E5D8-44A6-8395-BE995DB1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FDB-AA74-45B6-98AE-56077DD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879-CF4D-4E45-BB2D-E4AA4745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DD6-E2C9-4400-B7C4-225A771C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6B9-B5CC-427B-9309-2A02D933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AEE-1017-47C5-8912-3E6553E7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C26F-5DF6-4BD9-8C7E-B73C5F345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1 # 1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ewis dot symbol for a sodium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with 4 pairs of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with 2 pairs of dots &amp; 2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with 1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with no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Section 5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bonding electron pairs doe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8 Section 5 # 2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one pairs does the central atom of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pair and 1 elect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8 Section 5 # 3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otal number of valence electrons in wa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Section 6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ormal charge on the oxygen in the C-O single bond of the carbonate ion,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6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is the formal charge on the nitrogen in the nitrate ion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7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is the total number of resonance structures for the carbonate ion,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7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many resonance structures can be drawn for the water molecu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8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has an expanded oct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8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does not obey the octet ru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8 # 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has an incomplete oct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1 #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ots are present in the Lewis dot symbol for the sulfide ion,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9 # 1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difluoride is an unstable molecule that reacts readily with water. Calculate the bond energy of the O-F bond using the standard enthalpy of reaction and the bond energy data provided. 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+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→   O=O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+ 2HF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°= -318 kJ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nd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-H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=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-F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-F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nd energy (kJ/mol)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67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98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65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1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6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3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9 # 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hanol is sometimes used as an additive in oxygenated gasoline. Calculate its enthalpy of combustion using the bond energies give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(g) + 3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) + 3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g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o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=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 energy (kJ/mol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67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,093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1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,267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8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190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1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1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2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2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3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3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4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4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4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5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5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5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6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6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7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7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8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8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8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9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9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Section 2 #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in order of increasing lattice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LiCl&lt;NaCl&lt;CsCl&lt;K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&lt;LiCl&lt;KCl&lt;Cs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l&lt;KCl&lt;NaCl&lt;Li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l&lt;CsCl&lt;KCl&lt;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Section 2 # 2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energy change for the reaction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K(g) + Br(g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0" lang="nb-NO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(g) + B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(g)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ionization energy (IE) and electron affinity (EA) valu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E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19 kJ/m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8 kJ/m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40 kJ/m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324 kJ/mol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 kJ/m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92 kJ/m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 kJ/m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92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8 Section 3 # 1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strongest bond in the following group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/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3 # 2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one pairs of electrons are on the oxygen atom in the Lewis structure for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4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the 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 bond in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lar coval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polar coval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ar coval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npola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ne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Section 4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gnitude of the partial charge of HCl?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D = 3.3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m; 1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602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; bond length HCl = 1.27 Angstroms; Dipole Moment HCl = 1.08 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0.18 and +0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.7 and +3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.3 and +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0.58 and +0.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Section 4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presents a quantitative measure of the polarity of a bo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ol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6-30T00:54:51Z</dcterms:modified>
  <cp:revision>2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