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BFA6-B25E-4DA4-921A-DDF91630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6961-85E1-41FB-8F84-6D198D7A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7027-8B65-41E4-9B2B-1A9F52B7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E8B5-8BE4-46CC-81E7-8BD1BA4C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042B-0ECF-4071-AD50-C6D37B2F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055D-1F5F-498F-AF64-C9E7AF0D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4BE6-2963-4C7A-A06E-136D0E9B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9610-30EC-4E36-8163-3DCCACCE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FA22-D216-4510-B56D-738167B4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18BA-B0ED-4863-8BAF-6026AA4B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7004-C673-4698-8327-D5E69E51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4D5B-CA87-4657-8FE3-5690E682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08CE-CE4D-4A1E-B840-FD534B096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 Section 1 # 1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wavelength of light with a frequency of 7.6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 = 3.0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/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4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3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28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4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6 Section 4 # 2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de Broglie mass of a photon of light with a wavelength of 366 nm and moving at a velocity of 8.55 m/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.5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.84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.1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.0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6 Section 5 # 1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inimum uncertainty in the position of a particle moving at a speed of 5.7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/s +/-1% and having a mass of 2.89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g (h = 6.6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 s)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8.4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6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.3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.04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.98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 Section 5 # 2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inimum uncertainty in the position of a particle moving at a speed of 3.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/s +/-2% and having a mass of 7.2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g (h = 6.6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 s)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.66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5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.1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.0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.09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 Section 6 # 1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value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what subshell does it represent 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?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&amp; subshell =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 &amp; subshell =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&amp; subshell = s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 &amp; subshell =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 Section 6 # 2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many orbitals are in a subshell designated by the quantum numb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 Section 6 # 3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at is the total number of orbitals in the shell designat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 Section 6 # 4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of the following is a legitimate set of three quantum numbers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pective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1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3,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0,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3, 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 Section 7 # 1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many orbitals are there in the 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bsh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 Section 7 # 2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quantum number is responsible for the energy of orbital in a hydrogen at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 Section 7 # 3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orbitals are higher in energy than an 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bit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/E.  B, C, and 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6 Section 1 # 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is the frequency of light with a wavelength of 366 nm (c = 3.0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/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8.2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.09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8.2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8.2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 Section 7 # 4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of the following is a legitimate set of quantum numbers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pectively, which corresponds to an 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bit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4, 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3,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4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3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 Section 8 # 1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of the following electron configurations represents silic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 Section 8 # 2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at element is represented by the electron configuration of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 Section 9 # 1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of the following electron configurations represents chlor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Ne]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Ar]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Ne]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Ne]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 Section 9 # 2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at element is represented by the electron configuration of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 Section 9 # 3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of the following is 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lock el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 Section 9 # 4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of the following i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lock el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rd Answers to chapter 6 clicke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24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1.1 = 2 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1.2 = 4 or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2.1 = 3 o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2.2 = 2 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2.3 = 4 or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3.1 = 1 o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3.2 = 2 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3.3 = 3 o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4.1 = 4 or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4.2 = 3 o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5.1 = 2 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5.2 = 3 o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6.1 = 4 or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6.2 = 2 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6.3 = 2 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6.4 = 1 o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7.1 = 4 or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7.2 = 1 o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7.3 = 2 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7.4 = 4 or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8.1 = 3 o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8.2 = 3 o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9.1 = 1 o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9.2 = 4 or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9.3 = 2 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9.4 = 2 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6 Section 2 #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energy of light with a wavelength of 481 nm     (h = 6.6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 s and c = 3.0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1.0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5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14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1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6 Section 2 # 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wavelength of light that has an energy of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87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 (h = 6.6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 s and c = 3.0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71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4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9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3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7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6 Section 2 #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frequency of light having an energy of            1.9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 (h = 6.6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 s and c = 3.0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8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5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44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7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9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 Section 3 # 1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energy of an electron in the n = 2 state in a hydrogen at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5.4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.09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.36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8.7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 Section 3 # 2 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of an electron that goes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.94 x 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-18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.94 x 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-18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.74 x 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-17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.74 x 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-17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 Section 3 # 3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wavelength of light emitted when an electron in a hydrogen atom goes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 = 3.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/s and h = 6.6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 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 0.0103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22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97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.07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 Section 4 # 1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de Broglie wavelength of a particle having a mass of 3.1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g moving at 5.4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/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1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6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26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.6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Debbie Beard</dc:creator>
  <dc:description/>
  <dc:language>en-US</dc:language>
  <cp:lastModifiedBy>David Jones</cp:lastModifiedBy>
  <dcterms:modified xsi:type="dcterms:W3CDTF">2018-06-27T23:16:08Z</dcterms:modified>
  <cp:revision>2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