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90C-FF0E-4414-8F7A-D34F7993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B5E-B3E3-4F28-BF03-EF22FA62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DB6-BE4D-4B92-B4CF-0B49A819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CFB-DC61-44E9-B93E-3C5EA715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D65-B208-481D-8A36-0B65805E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EAF-144E-4D01-A5AE-AAECD850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4CE-D991-452E-B5BF-35A74D09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B23-703F-4F0F-94AF-4308C6C4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231-64F6-4F47-B10C-6B6A5465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4E8-391D-43D9-9C1E-13988789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5CA-BD7B-4F28-91A1-AACFFA20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187-C955-4766-A32A-D69D0B88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C295-0C79-44C0-8562-F37EC87AA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 Section 1 #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st abundant gas contained in dry air at sea level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 Section 5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eenhouse gas that is trapped near Earth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428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 Section 5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instrument can be used to observe molecular vibr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iger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spectrome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R spectr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 Section 5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can act as a greenhouse 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1 Section 6 # 1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hemical reaction in the troposphere is responsible for acid r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3200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ydrogenated to HC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CO is oxidized t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xidized to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 Section 6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hemical formula for quickl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1 Section 7 # 1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of the collection of noxious gases formed by the interaction of automobile exhaust with sunl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35049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ollu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ollu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Photochemical sm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1 Section 7 # 2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ubstance is a main component of automobile exhau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29718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1 Section 8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are common indoor pollut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dehy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All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1 Section 8 # 2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lf-life of Rn-222 is 3.8 days. If you begin with 105.3 g then how many grams will remain after 7 half-l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32763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5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823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0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27.7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21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904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1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1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2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2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2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3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3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4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4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5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5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5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7280" y="1447920"/>
            <a:ext cx="190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6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6.2 = 3 or C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7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7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8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8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 Section 1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of the process of conversion of molecular nitrogen into nitrogen compou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335232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Nitroge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Ni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Nitrogen fi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Nitrogen prolif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of the violent eruptions on the surface of the su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335232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Celestial l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Solar ligh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Volcan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Solar f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 Section 2 # 2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cientific name for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orthern Lights”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r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rora Austral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rora Bore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 Section 2 # 3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aximum wavelength of a photon that can cause the dissociation of a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? The Cl-Cl bond enthalpy is 243 kJ/mo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327672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243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127 n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325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493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 Section 3 # 1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a CF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CF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1 Section 3 # 2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ubstance in the stratosphere serves to protect Earth’s surface from UV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1 Section 4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ame is given to the molten rock that rises to the surface of the earth during a volcanic eru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33526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ten hot sp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ba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canic a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1 Section 4 # 2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gases is spewed into the atmosphere during a volcanic eru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3526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7T23:26:24Z</dcterms:modified>
  <cp:revision>4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