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E93-104E-4E57-9A50-E42AEC8F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7A7-3C45-4CF7-A610-56073362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E6D-2FB6-4093-B751-D74AF038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714-DF5B-4658-B7E6-EF11CF9D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C98-F4EA-4248-9A14-8E54E6FF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4F8-DFDA-4DEF-BD97-035BD070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208-515E-4929-BA4E-DAC4BEB9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3D8-B2FA-4ADC-A9A4-77E52022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27D-216E-452A-A071-42670645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0B8-0541-4204-BCDF-9103E66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F15-2F6D-4B80-89D4-0481AAF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A42-E973-47B9-9FF9-80F6503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1911-4CFB-43B4-AC04-F87B6B3D2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 Section 1 # 1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the following copolym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B-A-B-A-B-A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 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 Altern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G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2 Section 4 # 1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are used in the medical indu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am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and 3./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/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./A., 2./B., and 3./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 Section 4 # 2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opolymer is a suture used as stitches in the medical indu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3352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/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/B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/C.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ernat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/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2 Section 5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an allotrope of carb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kyba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lon 6,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arbons are found in a single molecule of buckminsterfullerene (buckyball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 Section 6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tement is correct for semicondu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band gap between the valence b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onduction b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and gap between the valence b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onduction 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nd gap between the valence b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b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onduct electri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2 Section 6 # 2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ill function as a semicondu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i doped with small amount of 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Ge doped with small amount of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i doped with small amount of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Ge doped with small amount of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/E. None of th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2 Section 6 # 3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an n-type semicondu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b doped with small amount of 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Ge doped with small amount of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i doped with small amount of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Ge doped with small amount of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2 Section 7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given to the substances that have no resistance to the flow of electr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condu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2 Section 7 # 2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first substance shown to be a superconductor at 4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2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213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.4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.5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2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2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3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4.1 = 5 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4.2 = 3 or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5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6920" y="1752120"/>
            <a:ext cx="2133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5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6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6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6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7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7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 Section 1 # 2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the following copolym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-A-A-A-B-B-B-B-A-A-A-A-B-B-B-B-A-A-A-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 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 Altern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G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 Section 1 # 3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the following copolym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-A-B-A-B-A-B-B-A-A-B-A-B-A-B-B-A-B-A-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 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 Altern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G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2 Section 1 #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eature does monomers of addition polymer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Hydrogen b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Sulfur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Multip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No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 Section 1 # 5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propylene, formed from the monomer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n be classified as a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  condensation poly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  polyam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  addition poly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poly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2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correct about cera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Most ceramic materials are electr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l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Some ceramics conduct electricity v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at very cold tempera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Ceramics are good heat insul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All of the above are correc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 Section 2 # 2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composite might contain Kevlar for strength and an epoxy to hold the fibers togethe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Carbon fibers com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 Polymer matrix com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 Metal matrix com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 Flexi-com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2 Section 3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a good analogy for isotrop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 A glass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x of spagh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x of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2 Section 3 #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roperty is exhibited by a liquid crystal molecu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Molecules ordered in one dimensio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aligned parallel to 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ordered in two dimen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 can be exhibited by liqu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1T23:54:06Z</dcterms:modified>
  <cp:revision>5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