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C98BD-CEE4-497C-9C26-D052C4B28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8210F-374F-4D5A-942B-11309461B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EAF2C-8CE0-4A00-BBCE-E46E19EAF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6BC35-8987-4062-9893-32B06DBFF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390F7-F0C4-43D6-838A-4461AF953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98162-6017-468A-8C5A-EF66AC3FE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02454-47BF-4EA8-BC60-4128AF487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2080F-3A61-4646-ABD5-ABDCB8B5D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E2ADF-F4E6-4906-A13F-C3C014F7E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8EB0B-72AD-47DE-AA4A-42DCA3DE3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B4A53-470D-4C23-B29E-C99FD0EE9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59BF1-90C9-44E4-A629-2A3850E4C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F6F71-48FD-48FC-83D9-B8F3182B47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pter 3 Section 1 # 1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the molecular mass of ethanol, C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H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/A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5.07 am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/B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3 am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/C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6.08 am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/D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4 am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pter 3 Section 4 # 2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any moles are in 73.7 g of calcium nitrite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266652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/A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.856 mo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/B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.449 mo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/C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.558 mo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/D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79 mo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pter 3 Section 4 # 3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any particles are in 54.2 g of magnesium phospha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66652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/A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24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artic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/B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92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artic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/C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74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artic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/D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.79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artic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pter 3 Section 4 # 4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the empirical formula of a compound composed of 85.6% carbon and 14.4% hydrogen by mas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266652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/A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/B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/C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/D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46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hapter 3 Section 5 # 1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empirical formula for a compound containing 15 g carbon, 2.52 g hydrogen, and 16 g oxygen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3123720"/>
            <a:ext cx="82296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/A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/B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/C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/D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07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pter 3 Section 5 # 2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the molecular formula for a compound having a molar mass of 90.04 g/mol containing carbon, hydrogen, and oxygen? Combustion analysis reveals 0.501 g of C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0.103 g 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 from burning 0.514 g of the compou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3809520"/>
            <a:ext cx="82296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/A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/B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/C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/D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e of the abo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pter 3 Section 6 # 1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any moles of water are produced by the complete combustion of 8.5 moles of ethylene,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590920"/>
            <a:ext cx="822960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/A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5 m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/B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7.0 m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/C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3 m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/D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5.5 m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pter 3 Section 6 # 2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any grams of ammonia are produced when 7.35 g of hydrogen reacts completely with nitrogen to produce ammonia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2590920"/>
            <a:ext cx="822960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/A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2.6 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/B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1.3 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/C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56 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/D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4 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pter 3 Section 6 # 3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ow many grams of iron (III) oxide are produced when 5.2 g oxygen reacts completely with iron to produce iron (III) oxide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2895480"/>
            <a:ext cx="82296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/A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7.3 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/B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.7 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/C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4.6 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/D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2 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8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pter 3 Section 7 # 1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the limiting reactant and how much ammonia is formed when 5.65 g of nitrogen reacts with 1.15 g of hydrogen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/A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&amp; 3.43 g N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roduc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/B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&amp; 6.52 g N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roduc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/C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&amp; 13.02 g N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roduc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/D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&amp; 6.87 g N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roduc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8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pter 3 Section 7 # 2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ow much lead (II) oxide is formed when 1.44 g of oxygen reacts with 11.2 g of lead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74320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/A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.1 g Pb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/B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.1 g Pb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/C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.0 g Pb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/D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.03 g Pb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208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pter 3 Section 1 # 2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hat is the formula mass of aluminum carbonat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2742840"/>
            <a:ext cx="8229600" cy="33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/A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5 am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/B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7 am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/C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1 am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/D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34 am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pter 3 Section 7 # 3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the percent yield for a process in which 25.6 g of iron (II) oxide is formed when 25.3 g of iron reacts with oxygen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590920"/>
            <a:ext cx="822960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/A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2.5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/B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8.5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/C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9.3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/D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6.7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pter 3 Section 7 # 4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hat is the percent yield for a process in which 13.8 g of carbon dioxide is formed when 18.7 g of oxygen reacts with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266652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/A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0.7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/B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6.8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/C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5.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/D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3.7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pter 3 Section 7 # 5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hich reaction shown is an example of a decomposition reaction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66652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/A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3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→ 2C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2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/B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O + C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→ CaC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/C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Fe + 3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→ 2F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/D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Na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→ 2Na + 3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ard Answers to chapter 3 clicker qu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124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1.1 = 3 or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1.2 = 4 or 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2.1 = 1 or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2.2 = 2 or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3.1 = 3 or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3.2 = 4 or 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3.3 = 1 or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3.4 = 2 or B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4.1 = 4 or 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4.2 = 3 or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4.3 = 1 or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4.4 = 4 or 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5.1 = 4 or 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5.2 = 3 or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6.1 = 2 or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6.2 = 2 or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6.3 = 1 or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7.1 = 2 or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7.2 = 1 or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7.3 = 2 or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7.4 = 3 or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7.5 = 4 or 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305920" cy="178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pter 3 Section 2 # 1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percent by mass of carbon in glucose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2590920"/>
            <a:ext cx="8229600" cy="35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/A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/B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.7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/C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3.3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/D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2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pter 3 Section 2 # 2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the percent by mass of sodium in sodium phosphat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/A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9.5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/B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2.1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/C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.8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/D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9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08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pter 3 Section 3 # 1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the stoichiometric coefficients required to balance the following equation?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g)  +  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g) 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g)  + 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(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819160"/>
            <a:ext cx="8229600" cy="330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/A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19, 6, 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/B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7, 6, 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/C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19, 12, 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/D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38, 12, 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381880" cy="178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pter 3 Section 3 # 2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hat is the stoichiometric coefficient required for iron when iron combines with oxygen to produce iron (III) oxid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2666520"/>
            <a:ext cx="8229600" cy="34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/A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/B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/C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/D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8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pter 3 Section 3 # 3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hat is the stoichiometric coefficient required for oxygen when octane undergoes a combustion reac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666520"/>
            <a:ext cx="8229600" cy="34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/A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/B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/C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/D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8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pter 3 Section 3 # 4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hat is the stoichiometric coefficient required for water when ammonia combines with oxygen to produce nitrogen monoxide and wat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2666520"/>
            <a:ext cx="8229600" cy="34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/A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/B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/C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/D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pter 3 Section 4 # 1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many atoms of magnesium are in 0.546 moles of magnesium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66652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/A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.1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2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to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/B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.4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2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to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/C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0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to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/D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3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to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Dr. Debbie Beard</dc:creator>
  <dc:description/>
  <dc:language>en-US</dc:language>
  <cp:lastModifiedBy>David Jones</cp:lastModifiedBy>
  <dcterms:modified xsi:type="dcterms:W3CDTF">2018-06-26T16:43:24Z</dcterms:modified>
  <cp:revision>12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