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E467-2372-4402-9B19-DB311BED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7FE-0C02-4445-8CEF-9207F46C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A15-899D-4214-9562-3970FD82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239-EC92-4623-8661-6CA8DC1A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1E2-0A33-4B3A-93B6-84ACF173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C832-8158-4629-8E26-919CB369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4C96-D79B-43B0-BB27-B7BE93C7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41E-7299-47F1-B205-CBC1330B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4292-302E-4652-A677-39B621E0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8B13-5346-4862-ACE1-23CDBFB3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6EE-CAF3-47DE-958B-A72F2A05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D9B-DEA2-4B9B-893A-5EA192EE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1817-B3E2-4645-8DC5-0F677E59E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16 Section 1 # 1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pair of species represents a conjugate acid-base pair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2640" y="281952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6 Section 4 # 2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concentration of HI in a solution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= 4.86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69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7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 Section 4 # 3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OH of a solution that is 2.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Ba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3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6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62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 Section 4 # 4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concentration of LiOH in a solution that has pOH 5.96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7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1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9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 Section 4 # 5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H of a solution that is 0.0083 M in NaO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9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92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 Section 4 # 6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concentration of Ba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 solution whose pH is 9.4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31237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6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3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 Section 5 # 1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weak acid is 4.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hat is the pH of a 0.58 M solution of this acid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32767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 Section 5 # 2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0.057 M solution of a weak acid has pH 5.23. What is the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is acid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28954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89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7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0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6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 Section 6 # 1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H of a 0.78 M solution of weak base i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8.4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31237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0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09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 Section 6 # 2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0.22 M solution of a weak base has a pH of 9.43. What is the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is base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9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 Section 7 # 1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formate ion, HCO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f the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HCOO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.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6 Section 1 # 2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pecies below does not have a conjugate b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040" y="320040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  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6 Section 7 # 2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the strongest b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.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6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7.4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6 Section 8 # 1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equilibrium concentration of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 0.080 M solution of sulfurous acid,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.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6.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6 Section 8 # 2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H of a 0.50 M solution of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6.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6.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2640" y="312372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2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6 Section 8 # 3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true for any diprotic or polyprotic ac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312372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16 Section 9 # 1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a strong acid and an oxoac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312372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16 Section 9 # 2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correct for the relative strengths of the chlorine oxoac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312372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H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H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H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H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H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H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O&lt;H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H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 Section 10 # 1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H of a 0.058 M solution of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.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1237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7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 Section 10 # 2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salts will produce a basic solution when dissolved in 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C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6 Section 11 # 1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metal oxide below is amphoteri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O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6 Section 11 # 2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metal hydroxide is amphoteri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312372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OH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 Section 2 #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in a solution in which [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= 0.008 M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8.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 8.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 1.5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 1.2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6 Section 11 # 3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xide below is acidi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2640" y="312372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O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O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6 Section 12 # 1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a Lewis aci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6 Section 12 # 2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a Lewis b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/C.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 to chapter 16 click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28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1.1 = 3 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1.2 = 3 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2.1 = 4 or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2.2 = 1 o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3.1 = 2 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3.2 = 1 o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3.3 = 4 or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3.4 = 4 or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4.1 = 3 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4.2 = 1 o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4.3 = 2 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4.4 = 2 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4.5 = 4 or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4.6 = 4 or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5.1 = 4 or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5.2 = 3 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562720" y="1599840"/>
            <a:ext cx="2209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6.1 = 2 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6.2 = 3 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7.1 = 1 o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7.2 = 3 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8.1 = 2 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8.2 = 1 o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8.3 = 4 or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9.1 = 4 or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9.2 = 1 o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10.1 = 3 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10.2 = 2 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11.1 = 1 o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11.2 = 3 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11.3 = 3 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12.1 = 2 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12.2 = 4 or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 Section 2 #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[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in a solution in which 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= 0.035 M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7696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2.9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 3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 5.4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 3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 Section 3 #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H of a solution in which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= 3.1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6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7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8.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.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 Section 3 #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[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in a solution if pH = 2.48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2819160"/>
            <a:ext cx="76197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3.31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.0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.4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.0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 Section 3 # 3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OH of a solution in whic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= 8.4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335268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 9.9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.5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8.4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.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 Section 3 # 4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of a solution whose pH = 7.6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335268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 6.38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.4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8.8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.0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7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6 Section 4 # 1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H of a 0.092 M solution of H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4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Debbie Beard</dc:creator>
  <dc:description/>
  <dc:language>en-US</dc:language>
  <cp:lastModifiedBy>David Jones</cp:lastModifiedBy>
  <dcterms:modified xsi:type="dcterms:W3CDTF">2018-07-03T22:22:47Z</dcterms:modified>
  <cp:revision>4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