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49F6-C718-4389-AFEE-60EE1775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150C-FB55-4D6A-8E70-C1F3E5B9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70A-C751-4051-B012-147237CF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F96-A8D0-4467-9B06-D71FD4D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6D0-B053-4D38-B1A5-D7F3B289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FEB-569D-4BCF-B7C1-2CBCEED5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64A-A41E-4013-ADF9-A16CBF6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818-DDC6-4B54-B4B9-5E53E586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854-0C3E-47D5-B3A3-DBF539F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C48-741D-421C-A62A-045D1CC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306-CA7F-49FD-BA0F-EEDF80C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289-AA2F-4DCC-952F-CA49119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5D-0EC0-4722-BCA6-87B3AA8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8CE-E613-4EA4-A909-9F04DB9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A381-9643-4285-A36D-0308E173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 Section 1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erm is defined when different samples of a given compound always contain the same elements in the same mass ra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ass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definit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ultipl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4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series of elemental symbols lists a metal, a nonmetal, and a metalloid, respective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, P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, Cu,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C,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, O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elements would you expect to have properties most similar to those of oxyg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Section 4 #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given for Group 7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c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Section 4 # 4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group is called the alkaline earth 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5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al abundance of carbon-12 weighing 12.00000 amu is 98.93% and the natural abundance of carbon-13 weighing 13.003355 amu is 1.07%. What is the average atomic mas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0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003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003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atural abundance of copper-63 weighing 62.929599 amu is 69.17% and the natural abundance of copper-65 weighing 64.927793 amu is 30.83%. What is the average atomic mas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93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93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7.86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6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rrect, systematic name of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anese 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anganese tri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(II)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agnesium tri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6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rrect, systematic name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monium dichromium hep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monium 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6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rrect, systematic name of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iron tr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6 #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formula of calcium hydrox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 Section 1 #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erm is defined when two elements combine to form more than one compound with each other, the masses of one element that combine with a fixed mass of the other element are in ratio of small whol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ass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definit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ultipl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7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rrect formula for nitrous ac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7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formula for sulfur hexafluor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7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itrogen pen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itrogen pen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Section 7 # 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empirical formula of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 Answers to chapter 2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2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3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2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3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2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3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1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2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3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4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1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2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1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2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3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4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.1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.2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.3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.4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 Section 1 #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erm is defined when matter can be neither created nor destroy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ass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definit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multiple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2 #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uggested the name radioactivity to describe the spontaneous emission of particles or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ine Becque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J. Thom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2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sponsible for the positive charge in the nucleus of the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2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y (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le) is equivalent to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um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3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defined as atoms that have the same atomic number (Z) but different mass numbers (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 in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 in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3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neutrons are in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Section 3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ass number of a nitrogen atom with eight neutrons in its 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26T11:28:1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