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A3E-B5D2-410C-80DF-6AC75993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12D-AB3F-4739-84AC-8FF4427D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FDB-854A-4805-997F-2D601AB5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4FC-4BA6-49A5-A563-1C4764AD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721-573A-4F7B-9061-DF475DB2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1CC-4843-47B9-90DB-19661DCC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B33-5847-4A25-BD56-2CA9A23E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EA0-8D57-4323-B332-54CB00BA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C99-4FC0-4C2C-BD66-2DA44A73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7B6-C289-4931-B157-0FE49F94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EA1-E8D1-44D6-B517-7CB9CD52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7C7-2018-404B-BF8F-52ABBABA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100C-244C-4AB7-8E75-B6B224ABB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1 Section 1 # 1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intermolecular forces exist between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ecule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3123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-dipole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ole-dipole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bo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 Section 3 # 3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atom(s) per unit cell are found in a simple cub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 Section 4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O has the same crystal structure as NaCl, face-centered cubic. How many oxide 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 each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 as nearest neighbor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 Section 4 # 2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 of the following substances crystallizes as a covalent crys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 Section 4 # 3 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what angle would you expect X rays of wavelength 0.333 nm to be reflected from a crystal in which the distance between layers is 285 pm and n =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5.75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0.03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 Section 4 # 4 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ticular crystalline solid is brittle and has a relatively high melting point. It does not conduct electricity in the solid state; however, the solid will dissolve in water, and the resulting solution does conduct electricity. It is most likely a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crys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onic crys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llic crys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crys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 Section 5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 melts over a range of temperature, rather than with a sharp melting point. Butter is classified as a/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3124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valent sol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orphous sol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ic crys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ar crystal.</a:t>
            </a: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1 Section 5 # 2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glass classifi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orphous sol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valent cry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ic cry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crys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1 Section 6 # 1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amount of heat that must be absorbed by 10.0 g of ice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to convert it to liquid water at 60.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Give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heat (ice) = 2.1 J/g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heat (water) = 4.18 J/g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6.0 kJ/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.9 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6.3 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.42 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7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1 Section 6 # 2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ame of the process that describes a molecule going directly from the solid phase to the vapor ph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densatio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limatio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vapor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sio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1 Section 7 # 1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 in a phase diagram at which the three phase boundaries meet is known as the:</a:t>
            </a:r>
            <a:br>
              <a:rPr sz="20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iling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ting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/D.   tripl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1 Section 1 # 2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exhibits hydrogen bon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 Section 7 # 2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difference observed between the phase diagram of water and the phase diagram of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er the slope of the phase boundary line for solid-liquid is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and it is negative for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er the slope of the phase boundary line for solid-liquid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x-axis and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4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er the slope of the phase boundary line for solid-liquid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and it is positive for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significant dif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11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1904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1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1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1.3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2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2.2 = 3 or 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2.3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2.4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3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3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3.3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4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4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480" y="14479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4.3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4.4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5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5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6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6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7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7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1 Section 1 # 3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exhibits dipole-dipole inte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1 Section 2 # 1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the following substances is a liquid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Place these liquids in ord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rea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por pressur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thyl ether (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Propa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Ethanol (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anol &lt; propane &lt; dimethyl 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ne &lt; dimethyl ether &lt; etha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thyl ether &lt; ethanol &lt; pro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anol &lt; dimethyl ether &lt; pro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1 Section 2 # 2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quid boils when i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 is greater than room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por pressure is exactly 1 atmosp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por pressure is equal to, or greater than, the external press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ing o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 is equal to 273 K (standard temperature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 Section 2 # 3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lar enthalpy of vaporization of carbon disulfide is 26.74 kJ/mol, and its normal boiling point is 46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What is the vapor pressure of C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139 to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.47 to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13 to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47 to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1 Section 2 # 4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temperature at which water boils on a day in the mountains when the barometric pressure is 593 mmH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iven: the heat of vaporization of water is 40.79 kJ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117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97.0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93.1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1.5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11 Section 3 # 1 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ructure of gold has a face-centered cubic structure. The edge length of this cubic unit cell is 450.3 pm. Determine the density of gol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3200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3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7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4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98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1 Section 3 # 2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nium crystallizes in the simple cubic lattice. What is the coordination number for Po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7-01T21:00:05Z</dcterms:modified>
  <cp:revision>3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