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E46-6118-4DEA-85D9-55223B4F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A9A-93A8-46B5-8226-0E03E1A2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10E-1740-45CF-8978-7DC724B7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CA7-6A26-45DE-890D-88276A29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097-2FF9-499D-AAEA-B3700C47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D00-154F-4492-9639-4C4FFC0D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EDB-9D07-47BE-BE7D-DA3BB2F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D07-B841-4974-95A4-E63E9627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35B-FB65-4AF7-9E51-7D982C65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2B5-68D2-4FBD-96FB-2FBF0C0E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4BD-B135-48A8-BF65-A3854999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429-5610-4021-8967-03D4E07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7FEE-3402-4C24-AAF4-50C85D85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1 # 1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water is rich in which of the following metal 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b-NO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b-NO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nb-NO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4./D. 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4 # 2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correct for the increasing order of electronegativity among met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&lt;Fr&lt;Mg&lt;C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&lt;Ba&lt;Sr&lt;R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&lt;K&lt;Ca&lt;T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&lt;Ca&lt;Sr&lt;B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5 # 1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Group 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li me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me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etal ion has the largest ionic radius or s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5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metal has the highest melting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5 # 4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mmon name of sodium carbon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a 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est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6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has the largest first ionization ener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6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lic calcium is best prepared by electrolysis of which molten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phosph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hypochlo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7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cess is used to reduce anhydrous aluminum oxide to metallic alumin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ref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7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etal is the most abundant and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 plentiful in the Earth’s cru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24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213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1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1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2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2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2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3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3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4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4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5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5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6920" y="1676520"/>
            <a:ext cx="2133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5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5.4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6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6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7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7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1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ormula for epsomite, the major component in Epsom sa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Mg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cience and technology of separating metals from their 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33523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Metallu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Ex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Allo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2 # 2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xture of calcium silicate and calcium aluminate that remains molten at furnace temperature following the iron extraction process is call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Soda a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Sl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Molten limest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Calcified r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2 # 3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the process where a metal rod containing a few impurities is drawn through an electrical heating coil that melts the metal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7696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Distil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Electrolysi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Metallu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Zone refi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3 # 1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are good conductors of electricity and h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Me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and 2./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/E. 2./B. and 3./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3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of the process where a semiconductor’s ability to conduct electricity can be enhanced by adding small amounts of impurities to a pure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Metal conta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dd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3 # 3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mple of silicon to which a very small amount of phosphorus has been added as an impurity is known a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p-type semi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type semicon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l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4 Section 4 # 1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etal is not a solid at room tempera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9T01:43:02Z</dcterms:modified>
  <cp:revision>5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